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kongas.wav" ContentType="audio/x-wav"/>
  <Override PartName="/ppt/media/image8.png" ContentType="image/png"/>
  <Override PartName="/ppt/media/image7.png" ContentType="image/png"/>
  <Override PartName="/ppt/media/curve.wav" ContentType="audio/x-wav"/>
  <Override PartName="/ppt/media/image6.png" ContentType="image/png"/>
  <Override PartName="/ppt/media/romans.wav" ContentType="audio/x-wav"/>
  <Override PartName="/ppt/media/image3.jpeg" ContentType="image/jpeg"/>
  <Override PartName="/ppt/media/image15.png" ContentType="image/png"/>
  <Override PartName="/ppt/media/image5.png" ContentType="image/png"/>
  <Override PartName="/ppt/media/space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drama.wav" ContentType="audio/x-wav"/>
  <Override PartName="/ppt/media/image2.png" ContentType="image/png"/>
  <Override PartName="/ppt/media/image1.png" ContentType="image/png"/>
  <Override PartName="/ppt/media/image10.png" ContentType="image/png"/>
  <Override PartName="/ppt/media/applause.wav" ContentType="audio/x-wav"/>
  <Override PartName="/ppt/media/cow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9AB-593E-4816-B669-CE34A6D5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891-E0A6-4A48-8852-53F5BC8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46E-C49D-4EFE-AD75-6D5A1E0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16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60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B0D-4DD0-4DE9-9D97-770C296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7843-8F4B-4B8F-A7B1-E2F4236F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05E0-A369-448F-9109-18D9134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3583-2DB9-4966-A347-06E8A889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E02-DF39-4948-872E-9141200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6D7-39EB-47BF-80A0-D83FDA3A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D02-9995-4479-8FD7-A275DCB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E48B-6014-49EA-B9C1-943BD02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667-7627-4BBF-87D2-3167C146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4452-D4B6-4AE6-A1BD-3132BFC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D749-2163-4211-B928-BE11C4D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245D-E4C7-47D1-8E68-0D991A8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7A6-6AE0-480D-8A94-5F4D117E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16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60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BF59-C8DD-475E-AB76-BBA403F0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2A63-319C-430A-A67C-97BCD564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AC0E-F707-4525-A3CC-F34DE4B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73D2-CF72-4DC9-87C7-BCC0727D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B3F5-3C1F-49BB-B2A3-1CA925F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4BC0-F68C-48B6-AC5E-08E321B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68D-3CE4-47B6-BBC8-0010DC1E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FCB4-F37F-468F-AD10-354F9406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3972-7CA1-4E61-8F5A-F59FE10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96B6-D6C7-49F7-B6C1-A5F4662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201B-C59E-4059-9B2C-452E01B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48BC-C93F-4F48-A9B8-6B181B3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6ECA-736B-44BC-8F96-417F8E41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72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716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360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48B5-E360-4991-A1EF-07FCA05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9705-9489-4DD2-A4F4-FD3BD0C2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93BD-7CC2-4DE7-A5EA-115A283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B2A5-5154-4A0E-BD67-4FCC5CCE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080-DFC3-4D92-A6AF-4221A57E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0561-FD0B-4CEC-B74F-6AB3A244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1C21-969F-485D-945A-9A5CC3C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68C6-FB52-4BEE-812E-035F68A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3F4C-7252-4042-B236-D40E77B2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D80B-4069-4A84-8BA8-3540EA4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EB1C-D02F-43AB-B510-79B325F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4799-953B-4A80-824B-FAB70232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B9BE-9CA6-426C-89D4-CFC160EB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72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4716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3600" y="4174560"/>
            <a:ext cx="278676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7E7A-9BBE-4EA4-A5AB-3177A1CC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36A-5C2D-40CF-8D58-5134FAF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278-4B71-40B4-BD32-7DC710C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453-E86E-424C-BC54-E75A53A7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7456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EF4-E0E6-4C05-938A-8CBFF90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74560"/>
            <a:ext cx="865512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F1F-1978-47E6-9459-34E0195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45360" cy="12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453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2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01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27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627B-1F46-46CF-AFC8-943B7D7A2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45720" cy="12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5044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527880"/>
            <a:ext cx="2322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527880"/>
            <a:ext cx="31701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4640" y="6527880"/>
            <a:ext cx="2322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2D911-45D5-4C56-BB8D-9116D356105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720" y="1912680"/>
            <a:ext cx="8655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6360" y="6527520"/>
            <a:ext cx="2327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527520"/>
            <a:ext cx="31748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55000" y="6527520"/>
            <a:ext cx="2327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C64F4-22DF-438A-8D09-B34DF12161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518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994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994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994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CF134-BD23-495E-BAF5-B374E387D0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romans.wav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urve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ongas.wav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ama.wav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720" y="520200"/>
            <a:ext cx="905688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60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Arial"/>
              </a:rPr>
              <a:t>Hello,My name is Donte I am doing an author study with my  tiger time class and I chose Jeff Kinney. Please, No questions during the presentation and no eating or dr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29040" y="2223720"/>
            <a:ext cx="2940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Arial"/>
              </a:rPr>
              <a:t>Jeff Kin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96600" y="205740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420e"/>
                </a:solidFill>
                <a:latin typeface="Arial"/>
              </a:rPr>
              <a:t>In 1998 Jeff came up with the idea for Diary of a Wimpy Kid a story of a middle school weakling named Greg Heffley . Jeff worked on his book for almost eight years before showing it to a publisher in New Y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229600" y="6858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  <p:sndAc>
      <p:stSnd>
        <p:snd r:embed="rId4" name="roman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Gro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96600" y="191124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Jeff Kinney didn't want to grow up being a children's author. His dream was to become a news paper cartoonist,but he wasn't able to get his comic strips sy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65520" y="5029200"/>
            <a:ext cx="2774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  <p:sndAc>
      <p:stSnd>
        <p:snd r:embed="rId3" name="curv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llege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20360" y="195732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8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Black"/>
              </a:rPr>
              <a:t>Jeff Kinney attended the University of Maryland in the early 1990s. It was there that Jeff ran a comic strip called “Igdoof” in the campus newspaper, and he knew he wanted to be a carto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circle/>
    <p:sndAc>
      <p:stSnd>
        <p:snd r:embed="rId4" name="c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ele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8400" y="1600200"/>
            <a:ext cx="8674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0760" algn="ctr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Diary of a Wimpy Ki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 was released in April 2007 and quickly became a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New York Tim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 bestseller, eventually reaching the #1 spot.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Diary of a Wimpy Kid: Rodrick Rule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was released in January 2008 and also became a #1 bestsel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l"/>
    <p:sndAc>
      <p:stSnd>
        <p:snd r:embed="rId2" name="konga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83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680" y="2090880"/>
            <a:ext cx="100519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630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ree skills my author does well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e illustrate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e has good hu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nd he has good writ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  <p:sndAc>
      <p:stSnd>
        <p:snd r:embed="rId2" name="dram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36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81200" y="2057400"/>
            <a:ext cx="1276200" cy="2514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0574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476520" y="2057400"/>
            <a:ext cx="15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50292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008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77724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685800" y="4572000"/>
            <a:ext cx="1371600" cy="2514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28280" y="2971440"/>
            <a:ext cx="8658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y also made Diary of a Wimpy kid Movie and Rodrick Rules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  <p:sndAc>
      <p:stSnd>
        <p:snd r:embed="rId9" name="spac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360" y="628200"/>
            <a:ext cx="90550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4586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971800"/>
            <a:ext cx="5715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adingrockets.org/books/interviews/kin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07:46Z</dcterms:created>
  <dc:creator/>
  <dc:description/>
  <dc:language>en-US</dc:language>
  <cp:lastModifiedBy/>
  <cp:revision>0</cp:revision>
  <dc:subject/>
  <dc:title/>
</cp:coreProperties>
</file>